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media/image9.wmf" ContentType="image/x-wmf"/>
  <Override PartName="/ppt/media/image14.wmf" ContentType="image/x-wmf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B636-823A-4B80-892B-2A7E477DC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7909-3D2B-4365-89C7-5671AE44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7E14-BB35-4B80-A6D5-7D8D81619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C35D-2F06-4790-8C64-23F65EFE3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9C72-DAD6-49CC-B8B9-05811F21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C45F-7DB0-4124-A835-AC3A3512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2E46-F41E-4750-8D80-203799F8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0943-F12D-46FE-9504-9057F03F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1614-4DFA-4665-BD79-5523F338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CAEE-8020-46A7-BC7F-CF6ED7A5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B6D4-119E-461F-BA70-B5556EB5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C175-8607-4D0A-A9AD-0B874842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5762-C681-4371-B456-E189406BF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50840" y="304920"/>
          <a:ext cx="132732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304920"/>
                    <a:ext cx="13273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657600" y="533520"/>
            <a:ext cx="1371600" cy="9968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grpSp>
        <p:nvGrpSpPr>
          <p:cNvPr id="44" name=""/>
          <p:cNvGrpSpPr/>
          <p:nvPr/>
        </p:nvGrpSpPr>
        <p:grpSpPr>
          <a:xfrm>
            <a:off x="5943600" y="152280"/>
            <a:ext cx="3124080" cy="1404720"/>
            <a:chOff x="5943600" y="152280"/>
            <a:chExt cx="3124080" cy="1404720"/>
          </a:xfrm>
        </p:grpSpPr>
        <p:sp>
          <p:nvSpPr>
            <p:cNvPr id="45" name=""/>
            <p:cNvSpPr/>
            <p:nvPr/>
          </p:nvSpPr>
          <p:spPr>
            <a:xfrm>
              <a:off x="6705360" y="152280"/>
              <a:ext cx="175284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4400" spc="-1" strike="noStrike">
                  <a:solidFill>
                    <a:srgbClr val="15b921"/>
                  </a:solidFill>
                  <a:latin typeface="Comic Sans MS"/>
                  <a:ea typeface="Times New Roman"/>
                </a:rPr>
                <a:t> </a:t>
              </a:r>
              <a:r>
                <a:rPr b="1" i="1" lang="en-GB" sz="2800" spc="-1" strike="noStrike">
                  <a:solidFill>
                    <a:srgbClr val="339933"/>
                  </a:solidFill>
                  <a:latin typeface="Mistral"/>
                  <a:ea typeface="Times New Roman"/>
                </a:rPr>
                <a:t>ppn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943600" y="685800"/>
              <a:ext cx="3124080" cy="87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339933"/>
                  </a:solidFill>
                  <a:latin typeface="Arial"/>
                  <a:ea typeface="Arial"/>
                </a:rPr>
                <a:t>	</a:t>
              </a:r>
              <a:r>
                <a:rPr b="1" lang="es-ES" sz="1100" spc="-1" strike="noStrike">
                  <a:solidFill>
                    <a:srgbClr val="339933"/>
                  </a:solidFill>
                  <a:latin typeface="Arial"/>
                  <a:ea typeface="Arial"/>
                </a:rPr>
                <a:t>	</a:t>
              </a:r>
              <a:r>
                <a:rPr b="1" lang="es-ES" sz="1100" spc="-1" strike="noStrike">
                  <a:solidFill>
                    <a:srgbClr val="339933"/>
                  </a:solidFill>
                  <a:latin typeface="Arial"/>
                  <a:ea typeface="Arial"/>
                </a:rPr>
                <a:t>	</a:t>
              </a:r>
              <a:r>
                <a:rPr b="1" lang="es-ES" sz="1100" spc="-1" strike="noStrike">
                  <a:solidFill>
                    <a:srgbClr val="339933"/>
                  </a:solidFill>
                  <a:latin typeface="Arial"/>
                  <a:ea typeface="Arial"/>
                </a:rPr>
                <a:t>       </a:t>
              </a:r>
              <a:r>
                <a:rPr b="1" lang="es-ES" sz="2000" spc="-1" strike="noStrike">
                  <a:solidFill>
                    <a:srgbClr val="339933"/>
                  </a:solidFill>
                  <a:latin typeface="Arial"/>
                  <a:ea typeface="Arial"/>
                </a:rPr>
                <a:t>Programa Postgrado </a:t>
              </a:r>
              <a:r>
                <a:rPr b="1" lang="en-US" sz="2000" spc="-1" strike="noStrike">
                  <a:solidFill>
                    <a:srgbClr val="339933"/>
                  </a:solidFill>
                  <a:latin typeface="Arial"/>
                  <a:ea typeface="Arial"/>
                </a:rPr>
                <a:t>Nutrición Pública</a:t>
              </a:r>
              <a:r>
                <a:rPr b="0" lang="es-ES" sz="2000" spc="-1" strike="noStrike">
                  <a:solidFill>
                    <a:srgbClr val="339933"/>
                  </a:solidFill>
                  <a:latin typeface="Arial"/>
                  <a:ea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531360" y="3124080"/>
            <a:ext cx="8612280" cy="1975320"/>
            <a:chOff x="531360" y="3124080"/>
            <a:chExt cx="8612280" cy="1975320"/>
          </a:xfrm>
        </p:grpSpPr>
        <p:sp>
          <p:nvSpPr>
            <p:cNvPr id="48" name=""/>
            <p:cNvSpPr/>
            <p:nvPr/>
          </p:nvSpPr>
          <p:spPr>
            <a:xfrm>
              <a:off x="531360" y="4014720"/>
              <a:ext cx="403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r. Guillermo López de Romañ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33520" y="4700520"/>
              <a:ext cx="861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00"/>
                  </a:solidFill>
                  <a:latin typeface="Arial"/>
                </a:rPr>
                <a:t>Universidad Nacional Agraria, La Molina,  Li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3124080"/>
              <a:ext cx="844308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sumo de Productos Pesqueros: Importancia en la Nutrición del Per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acterísticas de los Alimentos de Alta Calidad Nutri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534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2120" indent="-476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ína con cantidades adecuadas de amonoacidos esen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62120" indent="-476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ido adecuado de micro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62120" indent="-476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 digestibilidad y absorción de 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62120" indent="-476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ido a su mayor precio deben ser utilizados para mejorar la calidad de otros ali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050840" y="1179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79440" y="194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7488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1828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27160" y="148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985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408400" y="1219320"/>
          <a:ext cx="3747960" cy="51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8400" y="1219320"/>
                    <a:ext cx="374796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013360" y="1027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70360" y="415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8200" y="533520"/>
            <a:ext cx="890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ción de Nutrientes  en 100 g de Diversos Al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ción de Nutrientes  en 100 g de Diversos Al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681280" y="1371600"/>
          <a:ext cx="369252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1280" y="1371600"/>
                    <a:ext cx="36925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ción de Nutrientes  en 100 g de Diversos Al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489040" y="1295280"/>
          <a:ext cx="3748320" cy="518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9040" y="1295280"/>
                    <a:ext cx="374832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304920" y="1981080"/>
          <a:ext cx="8381880" cy="3657600"/>
        </p:xfrm>
        <a:graphic>
          <a:graphicData uri="http://schemas.openxmlformats.org/drawingml/2006/table">
            <a:tbl>
              <a:tblPr/>
              <a:tblGrid>
                <a:gridCol w="2133360"/>
                <a:gridCol w="1100160"/>
                <a:gridCol w="1287720"/>
                <a:gridCol w="1287360"/>
                <a:gridCol w="1285920"/>
                <a:gridCol w="1287360"/>
              </a:tblGrid>
              <a:tr h="749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orí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teí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tin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er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scado Jur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evo de Gall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ne de 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ne de Pol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0" y="638280"/>
            <a:ext cx="89154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tidad de Nutrientes que se pueden adquir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r el valor de 1 Sol en los Mercados de L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4 de Marzo del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52280" y="1424160"/>
          <a:ext cx="8915400" cy="330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24160"/>
                    <a:ext cx="891540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1907280" y="536400"/>
            <a:ext cx="50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ú: Información Pesquera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5059440"/>
            <a:ext cx="135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OSTAT, 200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914400" y="114480"/>
          <a:ext cx="7391520" cy="643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4480"/>
                    <a:ext cx="7391520" cy="64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990720" y="6583320"/>
            <a:ext cx="135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OSTAT, 200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iones Necesarias para Incrementar el Consumo de Productos Hidrobioló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294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jorar la oferta de productos haciéndola económicam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itiva con otras fuentes de proteína de alta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ar la demanda mediante campañas de educación y promo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5440" y="3138480"/>
            <a:ext cx="90007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erra y Sel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ar la oferta de productos, salados secos u otros, de bajo co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ular la demanda de est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ar la producción 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39960" y="4586400"/>
            <a:ext cx="884484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cio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arrollar concentrado proteico de alto valor nutricional, sin ol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sabor que pueda utilizarse para mejorar la calidad de las die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paña Nacional para incentivar el consum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822240"/>
          <a:ext cx="9144000" cy="475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22240"/>
                    <a:ext cx="9144000" cy="47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228600" y="787320"/>
          <a:ext cx="8686800" cy="48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87320"/>
                    <a:ext cx="868680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69960" y="892080"/>
          <a:ext cx="7764480" cy="434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892080"/>
                    <a:ext cx="7764480" cy="43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men y Conclu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país se encuentra atravesando el fenómeno de transición nutricional por lo cual autoridades y la población deben tomar conciencia del m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necesario iniciar a la brevedad posible una campaña de educación nutricional orientada a controlar el sobrepeso y promover el consumo de alimentos de alto valor nutricional como son los productos hidrobioló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necesario contar con productos marinos de bajo costo que puedan ser trasladados a sierra y se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necesario contar con concentrados proteicos de productos hidrobiológicos, sin olor o sabor y de precio competitivos, para ser utilizados en preparación de los alimentos que se distribuyen en los programas sociales y como aditivos (polvo, o “spreads”) a dietas de baja calidad que se consumen en zonas deprim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mento en el consumo total de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or oferta y variedad de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or variabilidad est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or acceso a alimentos proces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or acceso a compra de alimentos preparados de poca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jor capacidad de compra de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minución del consumo de alimentos de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minución de la duración de lactancia mate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minución de alimentos de origen an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mento de ingesta de carbohidratos y gr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minución del contenido de fi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minución de la actividad fí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ación de maquinaria en el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e púb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atiempos de poca a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ilidades en el hogar (luz, agua, desag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mbios en los Patrones de Vida de la Población con la Urb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457200"/>
          <a:ext cx="9144000" cy="595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9144000" cy="59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304920"/>
          <a:ext cx="9144000" cy="579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914400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0" y="1409760"/>
          <a:ext cx="9182160" cy="476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09760"/>
                    <a:ext cx="918216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04920" y="655560"/>
            <a:ext cx="83818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evalencia de Sobrepeso y Obesidad (IMC&gt;25) en M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NDES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valencia de Deficiencia 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cronutrientes en el Per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33520" y="1828800"/>
          <a:ext cx="8076960" cy="3906720"/>
        </p:xfrm>
        <a:graphic>
          <a:graphicData uri="http://schemas.openxmlformats.org/drawingml/2006/table">
            <a:tbl>
              <a:tblPr/>
              <a:tblGrid>
                <a:gridCol w="4038480"/>
                <a:gridCol w="2049480"/>
                <a:gridCol w="1989000"/>
              </a:tblGrid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centa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mia en Niños Preescol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’65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. de Vitamina 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Niñ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’1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mia en ME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’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2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’75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4191120"/>
            <a:ext cx="784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úmero de Personas con deficiencia de micro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70720" y="5486400"/>
            <a:ext cx="17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4’75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13372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úmero d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on Sobrepeso - Obes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59760" y="3367080"/>
            <a:ext cx="17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2’632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380880"/>
            <a:ext cx="784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Número de Personas con deficiencia de ali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44792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’362,5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5:07:12Z</dcterms:created>
  <dc:creator>GLDR</dc:creator>
  <dc:description/>
  <dc:language>en-US</dc:language>
  <cp:lastModifiedBy>GLDR</cp:lastModifiedBy>
  <dcterms:modified xsi:type="dcterms:W3CDTF">2004-03-31T02:39:53Z</dcterms:modified>
  <cp:revision>33</cp:revision>
  <dc:subject/>
  <dc:title>Diapositiva 1</dc:title>
</cp:coreProperties>
</file>